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63A-8AA4-4B41-AD84-FAF3EFE9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60D-F7A2-48A8-AA62-BB4A53BB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EA3-EBD5-4BE4-970A-2CE1B367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D08-A9EA-407F-B8BD-E3AC7541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34EA-5D98-4755-AD12-C44617CF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964F-6A5B-4587-BA73-6B2FC745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92AD-3620-4319-BED5-751A9674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3B20-EFA9-4FA7-9058-BB9186F1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EE2E-C2A4-4478-926F-1111853B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B9AD-DB88-4A44-9BCA-FBB08170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93F9-A41E-474D-ADEE-9A2E3188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E44-3290-415B-89BB-0B5A01D0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4155-4F36-4F0E-9B62-AF6C1FD4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4960-4FB2-4975-B9E5-6152F768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545E-04F7-4BE8-BE1E-27F0C0BA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D24D-715D-4AE5-97D8-22316ABA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A18B-03C7-4D60-A565-AA3111DA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00B-2D5C-424E-A934-58447C72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414-6DDA-462B-B7C7-76FDB718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91A-D8FC-4656-9876-85A4F7FF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08D-92B4-4FE6-A23D-C5F0CFBB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C0E-4484-4C02-9EB9-2ED66440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EA9-80EB-4007-9A2B-7058838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A54-EF22-4B9A-B884-EE2C7BD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AutoShape 4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Group 26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AutoShape 27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AutoShape 45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AutoShape 46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Group 49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Line 50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Group 51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AutoShape 52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Group 60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AutoShape 61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DDFD-DD89-4782-A45A-2934CBDB89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Group 3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AutoShape 4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AutoShape 5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AutoShape 6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AutoShape 7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AutoShape 8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AutoShape 9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AutoShape 10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AutoShape 11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AutoShape 12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AutoShape 13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AutoShape 15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AutoShape 16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AutoShape 17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AutoShape 18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AutoShape 19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AutoShape 20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AutoShape 21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AutoShape 22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AutoShape 23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AutoShape 24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AutoShape 25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Group 26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AutoShape 27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AutoShape 28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AutoShape 29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AutoShape 30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AutoShape 31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AutoShape 32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AutoShape 33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AutoShape 34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AutoShape 35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AutoShape 36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AutoShape 37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AutoShape 38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AutoShape 39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AutoShape 40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AutoShape 41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AutoShape 42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AutoShape 43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AutoShape 44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AutoShape 45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AutoShape 46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AutoShape 47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AutoShape 48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Group 49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Line 50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Line 51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Group 52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AutoShape 53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Freeform 54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Freeform 55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AutoShape 56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Freeform 57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Freeform 58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Freeform 59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Freeform 60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Group 61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AutoShape 62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Freeform 63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Freeform 64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AutoShape 65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Freeform 66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Freeform 67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Freeform 68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Freeform 69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Text Box 75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065E-6218-4A12-A4E4-365045FB57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cc6600"/>
                </a:solidFill>
                <a:latin typeface="굴림"/>
              </a:rPr>
              <a:t>목  차</a:t>
            </a:r>
            <a:endParaRPr b="1" lang="en-US" sz="38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주제 및 주제선정 이유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표달성을 위한 활동결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현장 시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자기개발자유시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결론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9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굴림"/>
              </a:rPr>
              <a:t>☞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굴림"/>
              </a:rPr>
              <a:t>유의사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eb933b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용구성과 형식은 제한 없으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기 내용을 반드시 포함하여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eb933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달성을 위한 활동결과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지 이상을 포함하여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eb933b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분 이내의 발표 분량으로 작성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06:06:19Z</dcterms:created>
  <dc:creator>hongcap</dc:creator>
  <dc:description/>
  <dc:language>en-US</dc:language>
  <cp:lastModifiedBy>Ajou</cp:lastModifiedBy>
  <dcterms:modified xsi:type="dcterms:W3CDTF">2012-02-23T08:38:00Z</dcterms:modified>
  <cp:revision>11</cp:revision>
  <dc:subject/>
  <dc:title>슬라이드 1</dc:title>
</cp:coreProperties>
</file>