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8FB8-F8BC-4D78-B0A3-FBF57F81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86B9-C78B-4F1B-95EA-A17E8C7B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C33-13D7-4856-9C6B-621213FB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678-0CDC-437B-86EF-CBCF1BAA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3DC8-AFD0-41A0-AB12-6ADEE787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F902-8F31-4531-A587-68F902F3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50A5-BC6E-4403-A6AD-E2A3E6D5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1DBB-7D1C-4086-9892-FBA5BBBE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A4F0-2BB8-4217-8126-A8452B7E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2803-C4B3-4773-A1F6-01BE35C9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7A16-2189-4C79-9CD3-CE1E803D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A07-AFB1-4B39-9455-9D103FA3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1B41-E298-47AC-BAE3-285146FA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6E26-691E-46D5-BDD2-DCFC691B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F386-C725-467C-9166-EFE537A8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A049-E850-4EF1-8AAD-E07BBCB8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6981-9247-4AF4-A78F-128F33FB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06DFF-38F6-4F59-8E5C-68AC0DCF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E8D25-A28F-4050-A83A-1C4DE1C5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B1AA4-0297-4AE0-AAC1-F24709B3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D94A8-8D68-4979-A629-45852D60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8123C-CE76-4399-A5B1-7A14FD8F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EDBB-E890-451B-B480-FC03F62E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464BE-7827-4F89-8A9C-F6B372F2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F7389-E5A8-4451-8A7C-B47A6958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2FD87-1809-4F0C-9248-B7E18E46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7F4F4-85BE-4FB5-8CFE-68D15D01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6E4CE-468D-44DF-82E2-46428E5E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F04FA-2C9B-4094-96A0-E8C5E9DB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AAB19-E2EE-44D5-A4E9-4AAA6BAA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06E5-44DD-4FF9-A530-75C05D5A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DCC-0ABF-464D-8B63-D5BDE4A2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FA2-803D-4159-AF96-963A7D2B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DD25-1EE1-4E8F-AE43-C58BD591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57F0-664A-459F-84A1-3674A842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9178-5D19-4BA2-B970-24C01A65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47F3-B9E2-4325-90EE-23563815969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3092-CB85-494F-8D81-DAE5D49CBB80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D:\My Documents\바탕 화면\매\down_01 복사.png"/>
          <p:cNvPicPr/>
          <p:nvPr/>
        </p:nvPicPr>
        <p:blipFill>
          <a:blip r:embed="rId3"/>
          <a:stretch/>
        </p:blipFill>
        <p:spPr>
          <a:xfrm>
            <a:off x="2771640" y="-531720"/>
            <a:ext cx="3517920" cy="2493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A7F0-7D03-43EB-ADE3-79FBA94C77E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D:\My Documents\바탕 화면\매\down_01 복사.png"/>
          <p:cNvPicPr/>
          <p:nvPr/>
        </p:nvPicPr>
        <p:blipFill>
          <a:blip r:embed="rId3"/>
          <a:stretch/>
        </p:blipFill>
        <p:spPr>
          <a:xfrm>
            <a:off x="7745400" y="5880240"/>
            <a:ext cx="1722600" cy="12207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직사각형 6"/>
          <p:cNvSpPr/>
          <p:nvPr/>
        </p:nvSpPr>
        <p:spPr>
          <a:xfrm flipV="1">
            <a:off x="0" y="-720"/>
            <a:ext cx="9144000" cy="178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upload.wikimedia.org/wikipedia/commons/5/5d/Crystal_Clear_action_build.png" TargetMode="External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27.png"/><Relationship Id="rId4" Type="http://schemas.openxmlformats.org/officeDocument/2006/relationships/image" Target="../media/image25.png"/><Relationship Id="rId5" Type="http://schemas.openxmlformats.org/officeDocument/2006/relationships/image" Target="../media/image33.png"/><Relationship Id="rId6" Type="http://schemas.openxmlformats.org/officeDocument/2006/relationships/image" Target="../media/image25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19" descr=""/>
          <p:cNvPicPr/>
          <p:nvPr/>
        </p:nvPicPr>
        <p:blipFill>
          <a:blip r:embed="rId1"/>
          <a:stretch/>
        </p:blipFill>
        <p:spPr>
          <a:xfrm>
            <a:off x="2359080" y="1347840"/>
            <a:ext cx="4425840" cy="371520"/>
          </a:xfrm>
          <a:prstGeom prst="rect">
            <a:avLst/>
          </a:prstGeom>
          <a:ln w="0">
            <a:noFill/>
          </a:ln>
        </p:spPr>
      </p:pic>
      <p:pic>
        <p:nvPicPr>
          <p:cNvPr id="244" name="Rectangle 19" descr=""/>
          <p:cNvPicPr/>
          <p:nvPr/>
        </p:nvPicPr>
        <p:blipFill>
          <a:blip r:embed="rId2"/>
          <a:stretch/>
        </p:blipFill>
        <p:spPr>
          <a:xfrm>
            <a:off x="2359080" y="5340240"/>
            <a:ext cx="4425840" cy="37152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18" descr=""/>
          <p:cNvPicPr/>
          <p:nvPr/>
        </p:nvPicPr>
        <p:blipFill>
          <a:blip r:embed="rId3"/>
          <a:stretch/>
        </p:blipFill>
        <p:spPr>
          <a:xfrm>
            <a:off x="542880" y="2438280"/>
            <a:ext cx="827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그룹 3"/>
          <p:cNvGrpSpPr/>
          <p:nvPr/>
        </p:nvGrpSpPr>
        <p:grpSpPr>
          <a:xfrm>
            <a:off x="250920" y="1773360"/>
            <a:ext cx="6265800" cy="4824360"/>
            <a:chOff x="250920" y="1773360"/>
            <a:chExt cx="6265800" cy="4824360"/>
          </a:xfrm>
        </p:grpSpPr>
        <p:sp>
          <p:nvSpPr>
            <p:cNvPr id="247" name="자유형 14"/>
            <p:cNvSpPr/>
            <p:nvPr/>
          </p:nvSpPr>
          <p:spPr>
            <a:xfrm>
              <a:off x="250920" y="1773360"/>
              <a:ext cx="6265800" cy="4824360"/>
            </a:xfrm>
            <a:custGeom>
              <a:avLst/>
              <a:gdLst/>
              <a:ahLst/>
              <a:rect l="l" t="t" r="r" b="b"/>
              <a:pathLst>
                <a:path w="2305050" h="1866900">
                  <a:moveTo>
                    <a:pt x="0" y="19050"/>
                  </a:moveTo>
                  <a:lnTo>
                    <a:pt x="0" y="1857375"/>
                  </a:lnTo>
                  <a:lnTo>
                    <a:pt x="2305050" y="1866900"/>
                  </a:lnTo>
                  <a:lnTo>
                    <a:pt x="2276475" y="0"/>
                  </a:lnTo>
                  <a:lnTo>
                    <a:pt x="0" y="190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9d9d9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8" name="직선 연결선 15"/>
            <p:cNvSpPr/>
            <p:nvPr/>
          </p:nvSpPr>
          <p:spPr>
            <a:xfrm>
              <a:off x="425520" y="1962000"/>
              <a:ext cx="5578560" cy="4680"/>
            </a:xfrm>
            <a:prstGeom prst="line">
              <a:avLst/>
            </a:prstGeom>
            <a:ln w="12600">
              <a:solidFill>
                <a:srgbClr val="a6a6a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49" name="Picture 26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4972320" cy="3984480"/>
          </a:xfrm>
          <a:prstGeom prst="rect">
            <a:avLst/>
          </a:prstGeom>
          <a:ln w="0">
            <a:noFill/>
          </a:ln>
        </p:spPr>
      </p:pic>
      <p:sp>
        <p:nvSpPr>
          <p:cNvPr id="250" name="TextBox 11"/>
          <p:cNvSpPr/>
          <p:nvPr/>
        </p:nvSpPr>
        <p:spPr>
          <a:xfrm>
            <a:off x="179280" y="189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HY태백B"/>
                <a:ea typeface="HY태백B"/>
              </a:rPr>
              <a:t>시스템 이동 및 로그인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Rectangle 27"/>
          <p:cNvSpPr/>
          <p:nvPr/>
        </p:nvSpPr>
        <p:spPr>
          <a:xfrm>
            <a:off x="954000" y="1184400"/>
            <a:ext cx="500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2" name="그룹 13"/>
          <p:cNvGrpSpPr/>
          <p:nvPr/>
        </p:nvGrpSpPr>
        <p:grpSpPr>
          <a:xfrm>
            <a:off x="133200" y="1039680"/>
            <a:ext cx="5518440" cy="588960"/>
            <a:chOff x="133200" y="1039680"/>
            <a:chExt cx="5518440" cy="588960"/>
          </a:xfrm>
        </p:grpSpPr>
        <p:pic>
          <p:nvPicPr>
            <p:cNvPr id="253" name="Group 2" descr=""/>
            <p:cNvPicPr/>
            <p:nvPr/>
          </p:nvPicPr>
          <p:blipFill>
            <a:blip r:embed="rId2"/>
            <a:stretch/>
          </p:blipFill>
          <p:spPr>
            <a:xfrm>
              <a:off x="193680" y="1077120"/>
              <a:ext cx="5457960" cy="55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26" descr="Image:Crystal Clear action build.pn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33200" y="1039680"/>
              <a:ext cx="585720" cy="56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직사각형 9" descr=""/>
          <p:cNvPicPr/>
          <p:nvPr/>
        </p:nvPicPr>
        <p:blipFill>
          <a:blip r:embed="rId5"/>
          <a:stretch/>
        </p:blipFill>
        <p:spPr>
          <a:xfrm>
            <a:off x="774720" y="1085760"/>
            <a:ext cx="3419280" cy="511200"/>
          </a:xfrm>
          <a:prstGeom prst="rect">
            <a:avLst/>
          </a:prstGeom>
          <a:ln w="0">
            <a:noFill/>
          </a:ln>
        </p:spPr>
      </p:pic>
      <p:grpSp>
        <p:nvGrpSpPr>
          <p:cNvPr id="256" name="모서리가 둥근 사각형 설명선 13"/>
          <p:cNvGrpSpPr/>
          <p:nvPr/>
        </p:nvGrpSpPr>
        <p:grpSpPr>
          <a:xfrm>
            <a:off x="5108400" y="3560760"/>
            <a:ext cx="3517920" cy="2138400"/>
            <a:chOff x="5108400" y="3560760"/>
            <a:chExt cx="3517920" cy="2138400"/>
          </a:xfrm>
        </p:grpSpPr>
        <p:pic>
          <p:nvPicPr>
            <p:cNvPr id="257" name="모서리가 둥근 사각형 설명선 13" descr=""/>
            <p:cNvPicPr/>
            <p:nvPr/>
          </p:nvPicPr>
          <p:blipFill>
            <a:blip r:embed="rId6"/>
            <a:stretch/>
          </p:blipFill>
          <p:spPr>
            <a:xfrm>
              <a:off x="5108400" y="3560760"/>
              <a:ext cx="351792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5678640" y="3741840"/>
              <a:ext cx="2755800" cy="18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아이디와 비밀번호를 입력하고      버튼을 누릅니다</a:t>
              </a:r>
              <a:r>
                <a:rPr b="0" lang="en-US" sz="12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.  </a:t>
              </a:r>
              <a:r>
                <a:rPr b="0" lang="ko-KR" sz="12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아이디 및 비밀번호는 한국연구재단 홈페이지를 통해           후 부여받으시면 됩니다</a:t>
              </a:r>
              <a:r>
                <a:rPr b="0" lang="en-US" sz="12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.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※ </a:t>
              </a:r>
              <a:r>
                <a:rPr b="0" lang="ko-KR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연구재단 회원을 가입하였다고 하더라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    </a:t>
              </a:r>
              <a:r>
                <a:rPr b="0" lang="ko-KR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도 본 시스템을 사용하기 위해서는</a:t>
              </a:r>
              <a:r>
                <a:rPr b="0" lang="en-US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    </a:t>
              </a:r>
              <a:r>
                <a:rPr b="0" lang="ko-KR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학술기반지원팀에서 기관사용자로 승인을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    </a:t>
              </a:r>
              <a:r>
                <a:rPr b="0" lang="ko-KR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해 주어야만 사용이 가능합니다</a:t>
              </a:r>
              <a:r>
                <a:rPr b="0" lang="en-US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.</a:t>
              </a:r>
              <a:br>
                <a:rPr sz="1000"/>
              </a:br>
              <a:r>
                <a:rPr b="1" lang="en-US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    [</a:t>
              </a:r>
              <a:r>
                <a:rPr b="1" lang="ko-KR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문의 </a:t>
              </a:r>
              <a:r>
                <a:rPr b="1" lang="en-US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: </a:t>
              </a:r>
              <a:r>
                <a:rPr b="1" lang="ko-KR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학술기반지원팀 이슬기 연구원</a:t>
              </a:r>
              <a:r>
                <a:rPr b="1" lang="en-US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                  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             </a:t>
              </a:r>
              <a:r>
                <a:rPr b="1" lang="en-US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(042-869-6375)]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59" name="모서리가 둥근 직사각형 16"/>
          <p:cNvGrpSpPr/>
          <p:nvPr/>
        </p:nvGrpSpPr>
        <p:grpSpPr>
          <a:xfrm>
            <a:off x="3408480" y="3633840"/>
            <a:ext cx="1736640" cy="798480"/>
            <a:chOff x="3408480" y="3633840"/>
            <a:chExt cx="1736640" cy="798480"/>
          </a:xfrm>
        </p:grpSpPr>
        <p:pic>
          <p:nvPicPr>
            <p:cNvPr id="260" name="모서리가 둥근 직사각형 16" descr=""/>
            <p:cNvPicPr/>
            <p:nvPr/>
          </p:nvPicPr>
          <p:blipFill>
            <a:blip r:embed="rId7"/>
            <a:stretch/>
          </p:blipFill>
          <p:spPr>
            <a:xfrm>
              <a:off x="3408480" y="3633840"/>
              <a:ext cx="17366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3457440" y="3683160"/>
              <a:ext cx="16383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62" name="Picture 12" descr=""/>
          <p:cNvPicPr/>
          <p:nvPr/>
        </p:nvPicPr>
        <p:blipFill>
          <a:blip r:embed="rId8"/>
          <a:srcRect l="0" t="0" r="0" b="4252"/>
          <a:stretch/>
        </p:blipFill>
        <p:spPr>
          <a:xfrm>
            <a:off x="7827840" y="3795840"/>
            <a:ext cx="271440" cy="22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" descr=""/>
          <p:cNvPicPr/>
          <p:nvPr/>
        </p:nvPicPr>
        <p:blipFill>
          <a:blip r:embed="rId9"/>
          <a:stretch/>
        </p:blipFill>
        <p:spPr>
          <a:xfrm>
            <a:off x="7827840" y="4191120"/>
            <a:ext cx="492120" cy="1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1"/>
          <p:cNvSpPr/>
          <p:nvPr/>
        </p:nvSpPr>
        <p:spPr>
          <a:xfrm>
            <a:off x="179280" y="189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HY태백B"/>
                <a:ea typeface="HY태백B"/>
              </a:rPr>
              <a:t>지원신청서 입력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자유형 2"/>
          <p:cNvSpPr/>
          <p:nvPr/>
        </p:nvSpPr>
        <p:spPr>
          <a:xfrm>
            <a:off x="250920" y="1125360"/>
            <a:ext cx="7561080" cy="5472360"/>
          </a:xfrm>
          <a:custGeom>
            <a:avLst/>
            <a:gdLst/>
            <a:ahLst/>
            <a:rect l="l" t="t" r="r" b="b"/>
            <a:pathLst>
              <a:path w="2305050" h="1866900">
                <a:moveTo>
                  <a:pt x="0" y="19050"/>
                </a:moveTo>
                <a:lnTo>
                  <a:pt x="0" y="1857375"/>
                </a:lnTo>
                <a:lnTo>
                  <a:pt x="2305050" y="1866900"/>
                </a:lnTo>
                <a:lnTo>
                  <a:pt x="2276475" y="0"/>
                </a:lnTo>
                <a:lnTo>
                  <a:pt x="0" y="1905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d9d9d9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직선 연결선 3"/>
          <p:cNvSpPr/>
          <p:nvPr/>
        </p:nvSpPr>
        <p:spPr>
          <a:xfrm>
            <a:off x="425520" y="1962000"/>
            <a:ext cx="5578560" cy="5040"/>
          </a:xfrm>
          <a:prstGeom prst="line">
            <a:avLst/>
          </a:prstGeom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67" name="모서리가 둥근 직사각형 6"/>
          <p:cNvGrpSpPr/>
          <p:nvPr/>
        </p:nvGrpSpPr>
        <p:grpSpPr>
          <a:xfrm>
            <a:off x="6718320" y="2408400"/>
            <a:ext cx="352440" cy="182520"/>
            <a:chOff x="6718320" y="2408400"/>
            <a:chExt cx="352440" cy="182520"/>
          </a:xfrm>
        </p:grpSpPr>
        <p:pic>
          <p:nvPicPr>
            <p:cNvPr id="268" name="모서리가 둥근 직사각형 6" descr=""/>
            <p:cNvPicPr/>
            <p:nvPr/>
          </p:nvPicPr>
          <p:blipFill>
            <a:blip r:embed="rId1"/>
            <a:stretch/>
          </p:blipFill>
          <p:spPr>
            <a:xfrm>
              <a:off x="6718320" y="2408400"/>
              <a:ext cx="35244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740640" y="2428920"/>
              <a:ext cx="3078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70" name="Picture 3" descr=""/>
          <p:cNvPicPr/>
          <p:nvPr/>
        </p:nvPicPr>
        <p:blipFill>
          <a:blip r:embed="rId2"/>
          <a:stretch/>
        </p:blipFill>
        <p:spPr>
          <a:xfrm>
            <a:off x="7648560" y="2924280"/>
            <a:ext cx="330120" cy="139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"/>
          <p:cNvPicPr/>
          <p:nvPr/>
        </p:nvPicPr>
        <p:blipFill>
          <a:blip r:embed="rId3"/>
          <a:srcRect l="0" t="628" r="0" b="0"/>
          <a:stretch/>
        </p:blipFill>
        <p:spPr>
          <a:xfrm>
            <a:off x="3168720" y="3452760"/>
            <a:ext cx="3490920" cy="3100320"/>
          </a:xfrm>
          <a:prstGeom prst="rect">
            <a:avLst/>
          </a:prstGeom>
          <a:ln w="0">
            <a:noFill/>
          </a:ln>
        </p:spPr>
      </p:pic>
      <p:grpSp>
        <p:nvGrpSpPr>
          <p:cNvPr id="272" name="모서리가 둥근 사각형 설명선 10"/>
          <p:cNvGrpSpPr/>
          <p:nvPr/>
        </p:nvGrpSpPr>
        <p:grpSpPr>
          <a:xfrm>
            <a:off x="579600" y="4133880"/>
            <a:ext cx="2901960" cy="1060560"/>
            <a:chOff x="579600" y="4133880"/>
            <a:chExt cx="2901960" cy="1060560"/>
          </a:xfrm>
        </p:grpSpPr>
        <p:pic>
          <p:nvPicPr>
            <p:cNvPr id="273" name="모서리가 둥근 사각형 설명선 10" descr=""/>
            <p:cNvPicPr/>
            <p:nvPr/>
          </p:nvPicPr>
          <p:blipFill>
            <a:blip r:embed="rId4"/>
            <a:stretch/>
          </p:blipFill>
          <p:spPr>
            <a:xfrm>
              <a:off x="579600" y="4133880"/>
              <a:ext cx="29019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57360" y="4267080"/>
              <a:ext cx="2212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활용희망분야는          을 눌러 나타나는 화면에서 선택합니다</a:t>
              </a:r>
              <a:r>
                <a:rPr b="0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. </a:t>
              </a: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만일 활용분야가 없을 시 </a:t>
              </a:r>
              <a:r>
                <a:rPr b="1" lang="ko-KR" sz="1100" spc="-1" strike="noStrike">
                  <a:solidFill>
                    <a:srgbClr val="953735"/>
                  </a:solidFill>
                  <a:latin typeface="HY중고딕"/>
                  <a:ea typeface="HY중고딕"/>
                </a:rPr>
                <a:t>직접입력도 가능합니다</a:t>
              </a:r>
              <a:r>
                <a:rPr b="1" lang="en-US" sz="1100" spc="-1" strike="noStrike">
                  <a:solidFill>
                    <a:srgbClr val="953735"/>
                  </a:solidFill>
                  <a:latin typeface="HY중고딕"/>
                  <a:ea typeface="HY중고딕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75" name="Picture 5" descr=""/>
          <p:cNvPicPr/>
          <p:nvPr/>
        </p:nvPicPr>
        <p:blipFill>
          <a:blip r:embed="rId5"/>
          <a:stretch/>
        </p:blipFill>
        <p:spPr>
          <a:xfrm>
            <a:off x="1692360" y="4338720"/>
            <a:ext cx="460440" cy="166680"/>
          </a:xfrm>
          <a:prstGeom prst="rect">
            <a:avLst/>
          </a:prstGeom>
          <a:ln w="0">
            <a:noFill/>
          </a:ln>
        </p:spPr>
      </p:pic>
      <p:grpSp>
        <p:nvGrpSpPr>
          <p:cNvPr id="276" name="모서리가 둥근 직사각형 12"/>
          <p:cNvGrpSpPr/>
          <p:nvPr/>
        </p:nvGrpSpPr>
        <p:grpSpPr>
          <a:xfrm>
            <a:off x="3389400" y="4565520"/>
            <a:ext cx="347400" cy="158760"/>
            <a:chOff x="3389400" y="4565520"/>
            <a:chExt cx="347400" cy="158760"/>
          </a:xfrm>
        </p:grpSpPr>
        <p:pic>
          <p:nvPicPr>
            <p:cNvPr id="277" name="모서리가 둥근 직사각형 12" descr=""/>
            <p:cNvPicPr/>
            <p:nvPr/>
          </p:nvPicPr>
          <p:blipFill>
            <a:blip r:embed="rId6"/>
            <a:stretch/>
          </p:blipFill>
          <p:spPr>
            <a:xfrm>
              <a:off x="3389400" y="4565520"/>
              <a:ext cx="347400" cy="1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408480" y="4587840"/>
              <a:ext cx="31248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79" name="모서리가 둥근 사각형 설명선 13"/>
          <p:cNvGrpSpPr/>
          <p:nvPr/>
        </p:nvGrpSpPr>
        <p:grpSpPr>
          <a:xfrm>
            <a:off x="5211720" y="5718240"/>
            <a:ext cx="2981520" cy="931680"/>
            <a:chOff x="5211720" y="5718240"/>
            <a:chExt cx="2981520" cy="931680"/>
          </a:xfrm>
        </p:grpSpPr>
        <p:pic>
          <p:nvPicPr>
            <p:cNvPr id="280" name="모서리가 둥근 사각형 설명선 13" descr=""/>
            <p:cNvPicPr/>
            <p:nvPr/>
          </p:nvPicPr>
          <p:blipFill>
            <a:blip r:embed="rId7"/>
            <a:stretch/>
          </p:blipFill>
          <p:spPr>
            <a:xfrm>
              <a:off x="5211720" y="5718240"/>
              <a:ext cx="298152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267600" y="5843520"/>
              <a:ext cx="179388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내용 입력을 완료 했을 때 저장 버튼을 눌러줍니다</a:t>
              </a:r>
              <a:r>
                <a:rPr b="0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. </a:t>
              </a: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이때 자동으로 다음 입력화면으로 이동하게 됩니다</a:t>
              </a:r>
              <a:r>
                <a:rPr b="0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82" name="모서리가 둥근 직사각형 15"/>
          <p:cNvGrpSpPr/>
          <p:nvPr/>
        </p:nvGrpSpPr>
        <p:grpSpPr>
          <a:xfrm>
            <a:off x="4919760" y="6224760"/>
            <a:ext cx="274680" cy="188640"/>
            <a:chOff x="4919760" y="6224760"/>
            <a:chExt cx="274680" cy="188640"/>
          </a:xfrm>
        </p:grpSpPr>
        <p:pic>
          <p:nvPicPr>
            <p:cNvPr id="283" name="모서리가 둥근 직사각형 15" descr=""/>
            <p:cNvPicPr/>
            <p:nvPr/>
          </p:nvPicPr>
          <p:blipFill>
            <a:blip r:embed="rId8"/>
            <a:stretch/>
          </p:blipFill>
          <p:spPr>
            <a:xfrm>
              <a:off x="4919760" y="6224760"/>
              <a:ext cx="27468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4940280" y="6245280"/>
              <a:ext cx="2365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85" name="모서리가 둥근 직사각형 16"/>
          <p:cNvGrpSpPr/>
          <p:nvPr/>
        </p:nvGrpSpPr>
        <p:grpSpPr>
          <a:xfrm>
            <a:off x="3913200" y="3736800"/>
            <a:ext cx="1042920" cy="165240"/>
            <a:chOff x="3913200" y="3736800"/>
            <a:chExt cx="1042920" cy="165240"/>
          </a:xfrm>
        </p:grpSpPr>
        <p:pic>
          <p:nvPicPr>
            <p:cNvPr id="286" name="모서리가 둥근 직사각형 16" descr=""/>
            <p:cNvPicPr/>
            <p:nvPr/>
          </p:nvPicPr>
          <p:blipFill>
            <a:blip r:embed="rId9"/>
            <a:stretch/>
          </p:blipFill>
          <p:spPr>
            <a:xfrm>
              <a:off x="3913200" y="3736800"/>
              <a:ext cx="1042920" cy="1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930480" y="3757680"/>
              <a:ext cx="100512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88" name="모서리가 둥근 사각형 설명선 17"/>
          <p:cNvGrpSpPr/>
          <p:nvPr/>
        </p:nvGrpSpPr>
        <p:grpSpPr>
          <a:xfrm>
            <a:off x="4950000" y="3486240"/>
            <a:ext cx="3024000" cy="628560"/>
            <a:chOff x="4950000" y="3486240"/>
            <a:chExt cx="3024000" cy="628560"/>
          </a:xfrm>
        </p:grpSpPr>
        <p:pic>
          <p:nvPicPr>
            <p:cNvPr id="289" name="모서리가 둥근 사각형 설명선 17" descr=""/>
            <p:cNvPicPr/>
            <p:nvPr/>
          </p:nvPicPr>
          <p:blipFill>
            <a:blip r:embed="rId10"/>
            <a:stretch/>
          </p:blipFill>
          <p:spPr>
            <a:xfrm>
              <a:off x="4950000" y="3486240"/>
              <a:ext cx="302400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037200" y="3597120"/>
              <a:ext cx="18226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교육</a:t>
              </a:r>
              <a:r>
                <a:rPr b="0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,</a:t>
              </a: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연구 또는 지역개발 중 하나를 선택합니다</a:t>
              </a:r>
              <a:r>
                <a:rPr b="0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91" name="Picture 22" descr=""/>
          <p:cNvPicPr/>
          <p:nvPr/>
        </p:nvPicPr>
        <p:blipFill>
          <a:blip r:embed="rId11"/>
          <a:srcRect l="5948" t="0" r="0" b="0"/>
          <a:stretch/>
        </p:blipFill>
        <p:spPr>
          <a:xfrm>
            <a:off x="6261120" y="6043680"/>
            <a:ext cx="371520" cy="1540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5" descr=""/>
          <p:cNvPicPr/>
          <p:nvPr/>
        </p:nvPicPr>
        <p:blipFill>
          <a:blip r:embed="rId12"/>
          <a:stretch/>
        </p:blipFill>
        <p:spPr>
          <a:xfrm>
            <a:off x="682560" y="1122480"/>
            <a:ext cx="6696000" cy="21621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087"/>
          <p:cNvPicPr/>
          <p:nvPr/>
        </p:nvPicPr>
        <p:blipFill>
          <a:blip r:embed="rId13"/>
          <a:stretch/>
        </p:blipFill>
        <p:spPr>
          <a:xfrm rot="3152400">
            <a:off x="3368880" y="2909880"/>
            <a:ext cx="1149480" cy="257040"/>
          </a:xfrm>
          <a:prstGeom prst="rect">
            <a:avLst/>
          </a:prstGeom>
          <a:ln w="0">
            <a:noFill/>
          </a:ln>
        </p:spPr>
      </p:pic>
      <p:grpSp>
        <p:nvGrpSpPr>
          <p:cNvPr id="294" name="모서리가 둥근 사각형 설명선 5"/>
          <p:cNvGrpSpPr/>
          <p:nvPr/>
        </p:nvGrpSpPr>
        <p:grpSpPr>
          <a:xfrm>
            <a:off x="6377040" y="2341440"/>
            <a:ext cx="2859120" cy="852480"/>
            <a:chOff x="6377040" y="2341440"/>
            <a:chExt cx="2859120" cy="852480"/>
          </a:xfrm>
        </p:grpSpPr>
        <p:pic>
          <p:nvPicPr>
            <p:cNvPr id="295" name="모서리가 둥근 사각형 설명선 5" descr=""/>
            <p:cNvPicPr/>
            <p:nvPr/>
          </p:nvPicPr>
          <p:blipFill>
            <a:blip r:embed="rId14"/>
            <a:stretch/>
          </p:blipFill>
          <p:spPr>
            <a:xfrm>
              <a:off x="6377040" y="2341440"/>
              <a:ext cx="285912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6435720" y="2610000"/>
              <a:ext cx="267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접수목록을 확인하고 </a:t>
              </a:r>
              <a:r>
                <a:rPr b="1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“</a:t>
              </a:r>
              <a:r>
                <a:rPr b="1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신청</a:t>
              </a:r>
              <a:r>
                <a:rPr b="1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”</a:t>
              </a:r>
              <a:r>
                <a:rPr b="1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  버튼을</a:t>
              </a:r>
              <a:r>
                <a:rPr b="0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 </a:t>
              </a: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클릭합니다</a:t>
              </a:r>
              <a:r>
                <a:rPr b="0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1"/>
          <p:cNvSpPr/>
          <p:nvPr/>
        </p:nvSpPr>
        <p:spPr>
          <a:xfrm>
            <a:off x="179280" y="189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HY태백B"/>
                <a:ea typeface="HY태백B"/>
              </a:rPr>
              <a:t>활용계획서 입력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자유형 2"/>
          <p:cNvSpPr/>
          <p:nvPr/>
        </p:nvSpPr>
        <p:spPr>
          <a:xfrm>
            <a:off x="250920" y="1125360"/>
            <a:ext cx="7561080" cy="5472360"/>
          </a:xfrm>
          <a:custGeom>
            <a:avLst/>
            <a:gdLst/>
            <a:ahLst/>
            <a:rect l="l" t="t" r="r" b="b"/>
            <a:pathLst>
              <a:path w="2305050" h="1866900">
                <a:moveTo>
                  <a:pt x="0" y="19050"/>
                </a:moveTo>
                <a:lnTo>
                  <a:pt x="0" y="1857375"/>
                </a:lnTo>
                <a:lnTo>
                  <a:pt x="2305050" y="1866900"/>
                </a:lnTo>
                <a:lnTo>
                  <a:pt x="2276475" y="0"/>
                </a:lnTo>
                <a:lnTo>
                  <a:pt x="0" y="1905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d9d9d9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9" name="Picture 1" descr=""/>
          <p:cNvPicPr/>
          <p:nvPr/>
        </p:nvPicPr>
        <p:blipFill>
          <a:blip r:embed="rId1"/>
          <a:srcRect l="0" t="620" r="0" b="0"/>
          <a:stretch/>
        </p:blipFill>
        <p:spPr>
          <a:xfrm>
            <a:off x="324000" y="1371600"/>
            <a:ext cx="3228840" cy="3486240"/>
          </a:xfrm>
          <a:prstGeom prst="rect">
            <a:avLst/>
          </a:prstGeom>
          <a:ln w="0">
            <a:noFill/>
          </a:ln>
        </p:spPr>
      </p:pic>
      <p:grpSp>
        <p:nvGrpSpPr>
          <p:cNvPr id="300" name="모서리가 둥근 사각형 설명선 4"/>
          <p:cNvGrpSpPr/>
          <p:nvPr/>
        </p:nvGrpSpPr>
        <p:grpSpPr>
          <a:xfrm>
            <a:off x="1590840" y="4913280"/>
            <a:ext cx="4870440" cy="1285920"/>
            <a:chOff x="1590840" y="4913280"/>
            <a:chExt cx="4870440" cy="1285920"/>
          </a:xfrm>
        </p:grpSpPr>
        <p:pic>
          <p:nvPicPr>
            <p:cNvPr id="301" name="모서리가 둥근 사각형 설명선 4" descr=""/>
            <p:cNvPicPr/>
            <p:nvPr/>
          </p:nvPicPr>
          <p:blipFill>
            <a:blip r:embed="rId2"/>
            <a:stretch/>
          </p:blipFill>
          <p:spPr>
            <a:xfrm>
              <a:off x="1590840" y="4913280"/>
              <a:ext cx="48704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1662120" y="5343480"/>
              <a:ext cx="46674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활용계획서에서 필요로 하는 각각의 내용을 입력 후 화면 하단의</a:t>
              </a:r>
              <a:r>
                <a:rPr b="0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.</a:t>
              </a: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 </a:t>
              </a: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저장 버튼을 눌러줍니다</a:t>
              </a:r>
              <a:r>
                <a:rPr b="0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.</a:t>
              </a: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 </a:t>
              </a: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버튼 클릭 시 활용계획서 내의 다른 입력화면으로 이동합니다</a:t>
              </a:r>
              <a:r>
                <a:rPr b="0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. </a:t>
              </a: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활용계획서의 모든 내용이 입력 될 때까지 입력</a:t>
              </a:r>
              <a:r>
                <a:rPr b="0" lang="en-US" sz="11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저장을 반복합니다</a:t>
              </a:r>
              <a:r>
                <a:rPr b="0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03" name="Picture 22" descr=""/>
          <p:cNvPicPr/>
          <p:nvPr/>
        </p:nvPicPr>
        <p:blipFill>
          <a:blip r:embed="rId3"/>
          <a:srcRect l="5948" t="0" r="0" b="0"/>
          <a:stretch/>
        </p:blipFill>
        <p:spPr>
          <a:xfrm>
            <a:off x="5796000" y="5410080"/>
            <a:ext cx="371520" cy="154080"/>
          </a:xfrm>
          <a:prstGeom prst="rect">
            <a:avLst/>
          </a:prstGeom>
          <a:ln w="0">
            <a:noFill/>
          </a:ln>
        </p:spPr>
      </p:pic>
      <p:grpSp>
        <p:nvGrpSpPr>
          <p:cNvPr id="304" name="모서리가 둥근 직사각형 6"/>
          <p:cNvGrpSpPr/>
          <p:nvPr/>
        </p:nvGrpSpPr>
        <p:grpSpPr>
          <a:xfrm>
            <a:off x="328680" y="1670040"/>
            <a:ext cx="1042920" cy="165240"/>
            <a:chOff x="328680" y="1670040"/>
            <a:chExt cx="1042920" cy="165240"/>
          </a:xfrm>
        </p:grpSpPr>
        <p:pic>
          <p:nvPicPr>
            <p:cNvPr id="305" name="모서리가 둥근 직사각형 6" descr=""/>
            <p:cNvPicPr/>
            <p:nvPr/>
          </p:nvPicPr>
          <p:blipFill>
            <a:blip r:embed="rId4"/>
            <a:stretch/>
          </p:blipFill>
          <p:spPr>
            <a:xfrm>
              <a:off x="328680" y="1670040"/>
              <a:ext cx="1042920" cy="1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347760" y="1690560"/>
              <a:ext cx="100476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07" name="Picture 2" descr=""/>
          <p:cNvPicPr/>
          <p:nvPr/>
        </p:nvPicPr>
        <p:blipFill>
          <a:blip r:embed="rId5"/>
          <a:stretch/>
        </p:blipFill>
        <p:spPr>
          <a:xfrm>
            <a:off x="4067280" y="1341360"/>
            <a:ext cx="3490920" cy="3527640"/>
          </a:xfrm>
          <a:prstGeom prst="rect">
            <a:avLst/>
          </a:prstGeom>
          <a:ln w="0">
            <a:noFill/>
          </a:ln>
        </p:spPr>
      </p:pic>
      <p:grpSp>
        <p:nvGrpSpPr>
          <p:cNvPr id="308" name="모서리가 둥근 직사각형 9"/>
          <p:cNvGrpSpPr/>
          <p:nvPr/>
        </p:nvGrpSpPr>
        <p:grpSpPr>
          <a:xfrm>
            <a:off x="4054320" y="1670040"/>
            <a:ext cx="1041480" cy="165240"/>
            <a:chOff x="4054320" y="1670040"/>
            <a:chExt cx="1041480" cy="165240"/>
          </a:xfrm>
        </p:grpSpPr>
        <p:pic>
          <p:nvPicPr>
            <p:cNvPr id="309" name="모서리가 둥근 직사각형 9" descr=""/>
            <p:cNvPicPr/>
            <p:nvPr/>
          </p:nvPicPr>
          <p:blipFill>
            <a:blip r:embed="rId6"/>
            <a:stretch/>
          </p:blipFill>
          <p:spPr>
            <a:xfrm>
              <a:off x="4054320" y="1670040"/>
              <a:ext cx="1041480" cy="1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75200" y="1690560"/>
              <a:ext cx="100476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11" name="Picture 11" descr="087"/>
          <p:cNvPicPr/>
          <p:nvPr/>
        </p:nvPicPr>
        <p:blipFill>
          <a:blip r:embed="rId7"/>
          <a:stretch/>
        </p:blipFill>
        <p:spPr>
          <a:xfrm rot="19932000">
            <a:off x="3270240" y="3394080"/>
            <a:ext cx="114768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11"/>
          <p:cNvSpPr/>
          <p:nvPr/>
        </p:nvSpPr>
        <p:spPr>
          <a:xfrm>
            <a:off x="179280" y="189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HY태백B"/>
                <a:ea typeface="HY태백B"/>
              </a:rPr>
              <a:t>학력</a:t>
            </a:r>
            <a:r>
              <a:rPr b="0" lang="en-US" sz="3600" spc="-1" strike="noStrike">
                <a:solidFill>
                  <a:srgbClr val="ffffff"/>
                </a:solidFill>
                <a:latin typeface="HY태백B"/>
                <a:ea typeface="HY태백B"/>
              </a:rPr>
              <a:t>,</a:t>
            </a:r>
            <a:r>
              <a:rPr b="0" lang="ko-KR" sz="3600" spc="-1" strike="noStrike">
                <a:solidFill>
                  <a:srgbClr val="ffffff"/>
                </a:solidFill>
                <a:latin typeface="HY태백B"/>
                <a:ea typeface="HY태백B"/>
              </a:rPr>
              <a:t>경력</a:t>
            </a:r>
            <a:r>
              <a:rPr b="0" lang="en-US" sz="3600" spc="-1" strike="noStrike">
                <a:solidFill>
                  <a:srgbClr val="ffffff"/>
                </a:solidFill>
                <a:latin typeface="HY태백B"/>
                <a:ea typeface="HY태백B"/>
              </a:rPr>
              <a:t>,</a:t>
            </a:r>
            <a:r>
              <a:rPr b="0" lang="ko-KR" sz="3600" spc="-1" strike="noStrike">
                <a:solidFill>
                  <a:srgbClr val="ffffff"/>
                </a:solidFill>
                <a:latin typeface="HY태백B"/>
                <a:ea typeface="HY태백B"/>
              </a:rPr>
              <a:t>업적서 입력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자유형 2"/>
          <p:cNvSpPr/>
          <p:nvPr/>
        </p:nvSpPr>
        <p:spPr>
          <a:xfrm>
            <a:off x="250920" y="1125360"/>
            <a:ext cx="7561080" cy="5472360"/>
          </a:xfrm>
          <a:custGeom>
            <a:avLst/>
            <a:gdLst/>
            <a:ahLst/>
            <a:rect l="l" t="t" r="r" b="b"/>
            <a:pathLst>
              <a:path w="2305050" h="1866900">
                <a:moveTo>
                  <a:pt x="0" y="19050"/>
                </a:moveTo>
                <a:lnTo>
                  <a:pt x="0" y="1857375"/>
                </a:lnTo>
                <a:lnTo>
                  <a:pt x="2305050" y="1866900"/>
                </a:lnTo>
                <a:lnTo>
                  <a:pt x="2276475" y="0"/>
                </a:lnTo>
                <a:lnTo>
                  <a:pt x="0" y="1905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d9d9d9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rcRect l="0" t="588" r="0" b="0"/>
          <a:stretch/>
        </p:blipFill>
        <p:spPr>
          <a:xfrm>
            <a:off x="539640" y="1298520"/>
            <a:ext cx="5040360" cy="5010120"/>
          </a:xfrm>
          <a:prstGeom prst="rect">
            <a:avLst/>
          </a:prstGeom>
          <a:ln w="0">
            <a:noFill/>
          </a:ln>
        </p:spPr>
      </p:pic>
      <p:grpSp>
        <p:nvGrpSpPr>
          <p:cNvPr id="315" name="모서리가 둥근 사각형 설명선 7"/>
          <p:cNvGrpSpPr/>
          <p:nvPr/>
        </p:nvGrpSpPr>
        <p:grpSpPr>
          <a:xfrm>
            <a:off x="5473800" y="2766960"/>
            <a:ext cx="3079800" cy="1781280"/>
            <a:chOff x="5473800" y="2766960"/>
            <a:chExt cx="3079800" cy="1781280"/>
          </a:xfrm>
        </p:grpSpPr>
        <p:pic>
          <p:nvPicPr>
            <p:cNvPr id="316" name="모서리가 둥근 사각형 설명선 7" descr=""/>
            <p:cNvPicPr/>
            <p:nvPr/>
          </p:nvPicPr>
          <p:blipFill>
            <a:blip r:embed="rId2"/>
            <a:stretch/>
          </p:blipFill>
          <p:spPr>
            <a:xfrm>
              <a:off x="5473800" y="2766960"/>
              <a:ext cx="307980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5948280" y="2933640"/>
              <a:ext cx="243072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※ </a:t>
              </a:r>
              <a:r>
                <a:rPr b="0" lang="ko-KR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학력 등록 시 고등학교는 전공과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   </a:t>
              </a:r>
              <a:r>
                <a:rPr b="0" lang="ko-KR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 </a:t>
              </a:r>
              <a:r>
                <a:rPr b="0" lang="ko-KR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학위를 </a:t>
              </a:r>
              <a:r>
                <a:rPr b="0" lang="ko-KR" sz="1000" spc="-1" strike="noStrike">
                  <a:solidFill>
                    <a:srgbClr val="ff0000"/>
                  </a:solidFill>
                  <a:latin typeface="HY중고딕"/>
                  <a:ea typeface="HY중고딕"/>
                </a:rPr>
                <a:t>제외</a:t>
              </a:r>
              <a:r>
                <a:rPr b="0" lang="ko-KR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하고 등록합니다</a:t>
              </a:r>
              <a:r>
                <a:rPr b="0" lang="en-US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18" name="Picture 3" descr=""/>
          <p:cNvPicPr/>
          <p:nvPr/>
        </p:nvPicPr>
        <p:blipFill>
          <a:blip r:embed="rId3"/>
          <a:stretch/>
        </p:blipFill>
        <p:spPr>
          <a:xfrm>
            <a:off x="6029280" y="2897280"/>
            <a:ext cx="2156040" cy="1103400"/>
          </a:xfrm>
          <a:prstGeom prst="rect">
            <a:avLst/>
          </a:prstGeom>
          <a:ln w="0">
            <a:noFill/>
          </a:ln>
        </p:spPr>
      </p:pic>
      <p:grpSp>
        <p:nvGrpSpPr>
          <p:cNvPr id="319" name="모서리가 둥근 직사각형 8"/>
          <p:cNvGrpSpPr/>
          <p:nvPr/>
        </p:nvGrpSpPr>
        <p:grpSpPr>
          <a:xfrm>
            <a:off x="4992840" y="3822840"/>
            <a:ext cx="523800" cy="169560"/>
            <a:chOff x="4992840" y="3822840"/>
            <a:chExt cx="523800" cy="169560"/>
          </a:xfrm>
        </p:grpSpPr>
        <p:pic>
          <p:nvPicPr>
            <p:cNvPr id="320" name="모서리가 둥근 직사각형 8" descr=""/>
            <p:cNvPicPr/>
            <p:nvPr/>
          </p:nvPicPr>
          <p:blipFill>
            <a:blip r:embed="rId4"/>
            <a:stretch/>
          </p:blipFill>
          <p:spPr>
            <a:xfrm>
              <a:off x="4992840" y="3822840"/>
              <a:ext cx="523800" cy="16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5011560" y="3840120"/>
              <a:ext cx="48600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22" name="모서리가 둥근 직사각형 9"/>
          <p:cNvGrpSpPr/>
          <p:nvPr/>
        </p:nvGrpSpPr>
        <p:grpSpPr>
          <a:xfrm>
            <a:off x="6504120" y="3438360"/>
            <a:ext cx="1231920" cy="195480"/>
            <a:chOff x="6504120" y="3438360"/>
            <a:chExt cx="1231920" cy="195480"/>
          </a:xfrm>
        </p:grpSpPr>
        <p:pic>
          <p:nvPicPr>
            <p:cNvPr id="323" name="모서리가 둥근 직사각형 9" descr=""/>
            <p:cNvPicPr/>
            <p:nvPr/>
          </p:nvPicPr>
          <p:blipFill>
            <a:blip r:embed="rId5"/>
            <a:stretch/>
          </p:blipFill>
          <p:spPr>
            <a:xfrm>
              <a:off x="6504120" y="3438360"/>
              <a:ext cx="1231920" cy="1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6524640" y="3456000"/>
              <a:ext cx="11923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25" name="모서리가 둥근 직사각형 10"/>
          <p:cNvGrpSpPr/>
          <p:nvPr/>
        </p:nvGrpSpPr>
        <p:grpSpPr>
          <a:xfrm>
            <a:off x="6504120" y="3633840"/>
            <a:ext cx="1231920" cy="189000"/>
            <a:chOff x="6504120" y="3633840"/>
            <a:chExt cx="1231920" cy="189000"/>
          </a:xfrm>
        </p:grpSpPr>
        <p:pic>
          <p:nvPicPr>
            <p:cNvPr id="326" name="모서리가 둥근 직사각형 10" descr=""/>
            <p:cNvPicPr/>
            <p:nvPr/>
          </p:nvPicPr>
          <p:blipFill>
            <a:blip r:embed="rId6"/>
            <a:stretch/>
          </p:blipFill>
          <p:spPr>
            <a:xfrm>
              <a:off x="6504120" y="3633840"/>
              <a:ext cx="123192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524640" y="3652920"/>
              <a:ext cx="119232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자유형 3"/>
          <p:cNvSpPr/>
          <p:nvPr/>
        </p:nvSpPr>
        <p:spPr>
          <a:xfrm>
            <a:off x="250920" y="1125360"/>
            <a:ext cx="7561080" cy="5472360"/>
          </a:xfrm>
          <a:custGeom>
            <a:avLst/>
            <a:gdLst/>
            <a:ahLst/>
            <a:rect l="l" t="t" r="r" b="b"/>
            <a:pathLst>
              <a:path w="2305050" h="1866900">
                <a:moveTo>
                  <a:pt x="0" y="19050"/>
                </a:moveTo>
                <a:lnTo>
                  <a:pt x="0" y="1857375"/>
                </a:lnTo>
                <a:lnTo>
                  <a:pt x="2305050" y="1866900"/>
                </a:lnTo>
                <a:lnTo>
                  <a:pt x="2276475" y="0"/>
                </a:lnTo>
                <a:lnTo>
                  <a:pt x="0" y="1905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d9d9d9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TextBox 11"/>
          <p:cNvSpPr/>
          <p:nvPr/>
        </p:nvSpPr>
        <p:spPr>
          <a:xfrm>
            <a:off x="179280" y="189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HY태백B"/>
                <a:ea typeface="HY태백B"/>
              </a:rPr>
              <a:t>학력</a:t>
            </a:r>
            <a:r>
              <a:rPr b="0" lang="en-US" sz="3600" spc="-1" strike="noStrike">
                <a:solidFill>
                  <a:srgbClr val="ffffff"/>
                </a:solidFill>
                <a:latin typeface="HY태백B"/>
                <a:ea typeface="HY태백B"/>
              </a:rPr>
              <a:t>,</a:t>
            </a:r>
            <a:r>
              <a:rPr b="0" lang="ko-KR" sz="3600" spc="-1" strike="noStrike">
                <a:solidFill>
                  <a:srgbClr val="ffffff"/>
                </a:solidFill>
                <a:latin typeface="HY태백B"/>
                <a:ea typeface="HY태백B"/>
              </a:rPr>
              <a:t>경력</a:t>
            </a:r>
            <a:r>
              <a:rPr b="0" lang="en-US" sz="3600" spc="-1" strike="noStrike">
                <a:solidFill>
                  <a:srgbClr val="ffffff"/>
                </a:solidFill>
                <a:latin typeface="HY태백B"/>
                <a:ea typeface="HY태백B"/>
              </a:rPr>
              <a:t>,</a:t>
            </a:r>
            <a:r>
              <a:rPr b="0" lang="ko-KR" sz="3600" spc="-1" strike="noStrike">
                <a:solidFill>
                  <a:srgbClr val="ffffff"/>
                </a:solidFill>
                <a:latin typeface="HY태백B"/>
                <a:ea typeface="HY태백B"/>
              </a:rPr>
              <a:t>업적서 입력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5060880" cy="4816440"/>
          </a:xfrm>
          <a:prstGeom prst="rect">
            <a:avLst/>
          </a:prstGeom>
          <a:ln w="0">
            <a:noFill/>
          </a:ln>
        </p:spPr>
      </p:pic>
      <p:grpSp>
        <p:nvGrpSpPr>
          <p:cNvPr id="331" name="모서리가 둥근 사각형 설명선 4"/>
          <p:cNvGrpSpPr/>
          <p:nvPr/>
        </p:nvGrpSpPr>
        <p:grpSpPr>
          <a:xfrm>
            <a:off x="5462640" y="1109520"/>
            <a:ext cx="3163680" cy="2067120"/>
            <a:chOff x="5462640" y="1109520"/>
            <a:chExt cx="3163680" cy="2067120"/>
          </a:xfrm>
        </p:grpSpPr>
        <p:pic>
          <p:nvPicPr>
            <p:cNvPr id="332" name="모서리가 둥근 사각형 설명선 4" descr=""/>
            <p:cNvPicPr/>
            <p:nvPr/>
          </p:nvPicPr>
          <p:blipFill>
            <a:blip r:embed="rId2"/>
            <a:stretch/>
          </p:blipFill>
          <p:spPr>
            <a:xfrm>
              <a:off x="5462640" y="1109520"/>
              <a:ext cx="3163680" cy="20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5962680" y="1292400"/>
              <a:ext cx="2475000" cy="17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※ </a:t>
              </a:r>
              <a:r>
                <a:rPr b="0" lang="ko-KR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기관명 검색 시 검색결과가 없는 경우</a:t>
              </a:r>
              <a:br>
                <a:rPr sz="1000"/>
              </a:br>
              <a:r>
                <a:rPr b="1" lang="en-US" sz="1000" spc="-1" strike="noStrike">
                  <a:solidFill>
                    <a:srgbClr val="ff0000"/>
                  </a:solidFill>
                  <a:latin typeface="HY중고딕"/>
                  <a:ea typeface="HY중고딕"/>
                </a:rPr>
                <a:t>   </a:t>
              </a:r>
              <a:r>
                <a:rPr b="1" lang="ko-KR" sz="1000" spc="-1" strike="noStrike">
                  <a:solidFill>
                    <a:srgbClr val="ff0000"/>
                  </a:solidFill>
                  <a:latin typeface="HY중고딕"/>
                  <a:ea typeface="HY중고딕"/>
                </a:rPr>
                <a:t> 기타기관으로 설정 후 직책란에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HY중고딕"/>
                  <a:ea typeface="HY중고딕"/>
                </a:rPr>
                <a:t>    </a:t>
              </a:r>
              <a:r>
                <a:rPr b="1" lang="ko-KR" sz="1000" spc="-1" strike="noStrike">
                  <a:solidFill>
                    <a:srgbClr val="ff0000"/>
                  </a:solidFill>
                  <a:latin typeface="HY중고딕"/>
                  <a:ea typeface="HY중고딕"/>
                </a:rPr>
                <a:t>기관명과 직책을 함께 작성합니다</a:t>
              </a:r>
              <a:r>
                <a:rPr b="1" lang="en-US" sz="1000" spc="-1" strike="noStrike">
                  <a:solidFill>
                    <a:srgbClr val="ff0000"/>
                  </a:solidFill>
                  <a:latin typeface="HY중고딕"/>
                  <a:ea typeface="HY중고딕"/>
                </a:rPr>
                <a:t>.</a:t>
              </a:r>
              <a:br>
                <a:rPr sz="1000"/>
              </a:br>
              <a:r>
                <a:rPr b="0" lang="en-US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  </a:t>
              </a:r>
              <a:r>
                <a:rPr b="1" lang="en-US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 [</a:t>
              </a:r>
              <a:r>
                <a:rPr b="1" lang="ko-KR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문의 </a:t>
              </a:r>
              <a:r>
                <a:rPr b="1" lang="en-US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: </a:t>
              </a:r>
              <a:r>
                <a:rPr b="1" lang="ko-KR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학술기반지원팀 이슬기 연구원</a:t>
              </a:r>
              <a:r>
                <a:rPr b="1" lang="en-US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                  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             </a:t>
              </a:r>
              <a:r>
                <a:rPr b="1" lang="en-US" sz="1000" spc="-1" strike="noStrike">
                  <a:solidFill>
                    <a:srgbClr val="002060"/>
                  </a:solidFill>
                  <a:latin typeface="HY중고딕"/>
                  <a:ea typeface="HY중고딕"/>
                </a:rPr>
                <a:t>(042-869-6375)]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34" name="Picture 3" descr=""/>
          <p:cNvPicPr/>
          <p:nvPr/>
        </p:nvPicPr>
        <p:blipFill>
          <a:blip r:embed="rId3"/>
          <a:srcRect l="536" t="867" r="0" b="0"/>
          <a:stretch/>
        </p:blipFill>
        <p:spPr>
          <a:xfrm>
            <a:off x="6084720" y="1268280"/>
            <a:ext cx="2081520" cy="1032120"/>
          </a:xfrm>
          <a:prstGeom prst="rect">
            <a:avLst/>
          </a:prstGeom>
          <a:ln w="0">
            <a:noFill/>
          </a:ln>
        </p:spPr>
      </p:pic>
      <p:grpSp>
        <p:nvGrpSpPr>
          <p:cNvPr id="335" name="모서리가 둥근 직사각형 13"/>
          <p:cNvGrpSpPr/>
          <p:nvPr/>
        </p:nvGrpSpPr>
        <p:grpSpPr>
          <a:xfrm>
            <a:off x="7729560" y="1616040"/>
            <a:ext cx="324000" cy="189000"/>
            <a:chOff x="7729560" y="1616040"/>
            <a:chExt cx="324000" cy="189000"/>
          </a:xfrm>
        </p:grpSpPr>
        <p:pic>
          <p:nvPicPr>
            <p:cNvPr id="336" name="모서리가 둥근 직사각형 13" descr=""/>
            <p:cNvPicPr/>
            <p:nvPr/>
          </p:nvPicPr>
          <p:blipFill>
            <a:blip r:embed="rId4"/>
            <a:stretch/>
          </p:blipFill>
          <p:spPr>
            <a:xfrm>
              <a:off x="7729560" y="1616040"/>
              <a:ext cx="32400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748640" y="1636560"/>
              <a:ext cx="282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38" name="모서리가 둥근 직사각형 14"/>
          <p:cNvGrpSpPr/>
          <p:nvPr/>
        </p:nvGrpSpPr>
        <p:grpSpPr>
          <a:xfrm>
            <a:off x="5084640" y="1932120"/>
            <a:ext cx="541440" cy="182520"/>
            <a:chOff x="5084640" y="1932120"/>
            <a:chExt cx="541440" cy="182520"/>
          </a:xfrm>
        </p:grpSpPr>
        <p:pic>
          <p:nvPicPr>
            <p:cNvPr id="339" name="모서리가 둥근 직사각형 14" descr=""/>
            <p:cNvPicPr/>
            <p:nvPr/>
          </p:nvPicPr>
          <p:blipFill>
            <a:blip r:embed="rId5"/>
            <a:stretch/>
          </p:blipFill>
          <p:spPr>
            <a:xfrm>
              <a:off x="5084640" y="1932120"/>
              <a:ext cx="54144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5100480" y="1951200"/>
              <a:ext cx="5083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1"/>
          <p:cNvSpPr/>
          <p:nvPr/>
        </p:nvSpPr>
        <p:spPr>
          <a:xfrm>
            <a:off x="179280" y="18900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HY태백B"/>
                <a:ea typeface="HY태백B"/>
              </a:rPr>
              <a:t>첨부파일 등록</a:t>
            </a:r>
            <a:r>
              <a:rPr b="0" lang="en-US" sz="3600" spc="-1" strike="noStrike">
                <a:solidFill>
                  <a:srgbClr val="ffffff"/>
                </a:solidFill>
                <a:latin typeface="HY태백B"/>
                <a:ea typeface="HY태백B"/>
              </a:rPr>
              <a:t>, </a:t>
            </a:r>
            <a:r>
              <a:rPr b="0" lang="ko-KR" sz="3600" spc="-1" strike="noStrike">
                <a:solidFill>
                  <a:srgbClr val="ffffff"/>
                </a:solidFill>
                <a:latin typeface="HY태백B"/>
                <a:ea typeface="HY태백B"/>
              </a:rPr>
              <a:t>접수완료</a:t>
            </a:r>
            <a:r>
              <a:rPr b="0" lang="en-US" sz="3600" spc="-1" strike="noStrike">
                <a:solidFill>
                  <a:srgbClr val="ffffff"/>
                </a:solidFill>
                <a:latin typeface="HY태백B"/>
                <a:ea typeface="HY태백B"/>
              </a:rPr>
              <a:t>, </a:t>
            </a:r>
            <a:r>
              <a:rPr b="0" lang="ko-KR" sz="3600" spc="-1" strike="noStrike">
                <a:solidFill>
                  <a:srgbClr val="ffffff"/>
                </a:solidFill>
                <a:latin typeface="HY태백B"/>
                <a:ea typeface="HY태백B"/>
              </a:rPr>
              <a:t>지원취소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자유형 3"/>
          <p:cNvSpPr/>
          <p:nvPr/>
        </p:nvSpPr>
        <p:spPr>
          <a:xfrm>
            <a:off x="250920" y="1125360"/>
            <a:ext cx="7561080" cy="5472360"/>
          </a:xfrm>
          <a:custGeom>
            <a:avLst/>
            <a:gdLst/>
            <a:ahLst/>
            <a:rect l="l" t="t" r="r" b="b"/>
            <a:pathLst>
              <a:path w="2305050" h="1866900">
                <a:moveTo>
                  <a:pt x="0" y="19050"/>
                </a:moveTo>
                <a:lnTo>
                  <a:pt x="0" y="1857375"/>
                </a:lnTo>
                <a:lnTo>
                  <a:pt x="2305050" y="1866900"/>
                </a:lnTo>
                <a:lnTo>
                  <a:pt x="2276475" y="0"/>
                </a:lnTo>
                <a:lnTo>
                  <a:pt x="0" y="1905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d9d9d9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5832360" cy="2390760"/>
          </a:xfrm>
          <a:prstGeom prst="rect">
            <a:avLst/>
          </a:prstGeom>
          <a:ln w="0">
            <a:noFill/>
          </a:ln>
        </p:spPr>
      </p:pic>
      <p:grpSp>
        <p:nvGrpSpPr>
          <p:cNvPr id="344" name="모서리가 둥근 사각형 설명선 13"/>
          <p:cNvGrpSpPr/>
          <p:nvPr/>
        </p:nvGrpSpPr>
        <p:grpSpPr>
          <a:xfrm>
            <a:off x="5005440" y="1109520"/>
            <a:ext cx="4119480" cy="1974960"/>
            <a:chOff x="5005440" y="1109520"/>
            <a:chExt cx="4119480" cy="1974960"/>
          </a:xfrm>
        </p:grpSpPr>
        <p:pic>
          <p:nvPicPr>
            <p:cNvPr id="345" name="모서리가 둥근 사각형 설명선 13" descr=""/>
            <p:cNvPicPr/>
            <p:nvPr/>
          </p:nvPicPr>
          <p:blipFill>
            <a:blip r:embed="rId2"/>
            <a:stretch/>
          </p:blipFill>
          <p:spPr>
            <a:xfrm>
              <a:off x="5005440" y="1109520"/>
              <a:ext cx="4119480" cy="19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534000" y="1287360"/>
              <a:ext cx="2411640" cy="16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지원의사가 없거나 모든 내용을 새로 작성하려면 지원취소 탭을 눌러줍니다</a:t>
              </a:r>
              <a:r>
                <a:rPr b="0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. </a:t>
              </a: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본 탭을 실행 시 모든 내용이 삭제되어 </a:t>
              </a:r>
              <a:r>
                <a:rPr b="0" lang="ko-KR" sz="1100" spc="-1" strike="noStrike">
                  <a:solidFill>
                    <a:srgbClr val="ff0000"/>
                  </a:solidFill>
                  <a:latin typeface="HY중고딕"/>
                  <a:ea typeface="HY중고딕"/>
                </a:rPr>
                <a:t>복구가 불가능하오니 유념하시기 바랍니다</a:t>
              </a:r>
              <a:r>
                <a:rPr b="0" lang="en-US" sz="1100" spc="-1" strike="noStrike">
                  <a:solidFill>
                    <a:srgbClr val="ff0000"/>
                  </a:solidFill>
                  <a:latin typeface="HY중고딕"/>
                  <a:ea typeface="HY중고딕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47" name="모서리가 둥근 사각형 설명선 4"/>
          <p:cNvGrpSpPr/>
          <p:nvPr/>
        </p:nvGrpSpPr>
        <p:grpSpPr>
          <a:xfrm>
            <a:off x="938160" y="3236760"/>
            <a:ext cx="2719440" cy="3267360"/>
            <a:chOff x="938160" y="3236760"/>
            <a:chExt cx="2719440" cy="3267360"/>
          </a:xfrm>
        </p:grpSpPr>
        <p:pic>
          <p:nvPicPr>
            <p:cNvPr id="348" name="모서리가 둥근 사각형 설명선 4" descr=""/>
            <p:cNvPicPr/>
            <p:nvPr/>
          </p:nvPicPr>
          <p:blipFill>
            <a:blip r:embed="rId3"/>
            <a:stretch/>
          </p:blipFill>
          <p:spPr>
            <a:xfrm>
              <a:off x="938160" y="3236760"/>
              <a:ext cx="2719440" cy="32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1095480" y="4068720"/>
              <a:ext cx="234468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Font typeface="HY중고딕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작성 서식을 각 항목별로 등록합니다</a:t>
              </a:r>
              <a:r>
                <a:rPr b="0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. </a:t>
              </a: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파일 등록 시 파일명은 되도록 띄어쓰기가 없어야 하며 각 서식별 </a:t>
              </a:r>
              <a:r>
                <a:rPr b="0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10Mb</a:t>
              </a: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를 초과할 수 없습니다</a:t>
              </a:r>
              <a:r>
                <a:rPr b="0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.</a:t>
              </a: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Font typeface="HY중고딕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다음과 같은 파일 명명 규칙을 따라 주시는게 좋습니다</a:t>
              </a:r>
              <a:r>
                <a:rPr b="0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.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(</a:t>
              </a: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연도</a:t>
              </a:r>
              <a:r>
                <a:rPr b="0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_</a:t>
              </a: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시기</a:t>
              </a:r>
              <a:r>
                <a:rPr b="0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_</a:t>
              </a: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학교명</a:t>
              </a:r>
              <a:r>
                <a:rPr b="0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_</a:t>
              </a: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인사명</a:t>
              </a:r>
              <a:r>
                <a:rPr b="0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_</a:t>
              </a: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서식명</a:t>
              </a:r>
              <a:r>
                <a:rPr b="0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.hwp)</a:t>
              </a:r>
              <a:br>
                <a:rPr sz="1100"/>
              </a:br>
              <a:r>
                <a:rPr b="1" i="1" lang="en-US" sz="1100" spc="-1" strike="noStrike">
                  <a:solidFill>
                    <a:srgbClr val="984807"/>
                  </a:solidFill>
                  <a:latin typeface="HY중고딕"/>
                  <a:ea typeface="HY중고딕"/>
                </a:rPr>
                <a:t>ex)2018</a:t>
              </a:r>
              <a:r>
                <a:rPr b="1" i="1" lang="ko-KR" sz="1100" spc="-1" strike="noStrike">
                  <a:solidFill>
                    <a:srgbClr val="984807"/>
                  </a:solidFill>
                  <a:latin typeface="HY중고딕"/>
                  <a:ea typeface="HY중고딕"/>
                </a:rPr>
                <a:t>년 후반기 </a:t>
              </a:r>
              <a:r>
                <a:rPr b="1" i="1" lang="en-US" sz="1100" spc="-1" strike="noStrike">
                  <a:solidFill>
                    <a:srgbClr val="984807"/>
                  </a:solidFill>
                  <a:latin typeface="HY중고딕"/>
                  <a:ea typeface="HY중고딕"/>
                </a:rPr>
                <a:t>OO</a:t>
              </a:r>
              <a:r>
                <a:rPr b="1" i="1" lang="ko-KR" sz="1100" spc="-1" strike="noStrike">
                  <a:solidFill>
                    <a:srgbClr val="984807"/>
                  </a:solidFill>
                  <a:latin typeface="HY중고딕"/>
                  <a:ea typeface="HY중고딕"/>
                </a:rPr>
                <a:t>대학교 홍길동 지원신청서</a:t>
              </a:r>
              <a:br>
                <a:rPr sz="1100"/>
              </a:br>
              <a:r>
                <a:rPr b="1" i="1" lang="en-US" sz="1100" spc="-1" strike="noStrike">
                  <a:solidFill>
                    <a:srgbClr val="984807"/>
                  </a:solidFill>
                  <a:latin typeface="HY중고딕"/>
                  <a:ea typeface="HY중고딕"/>
                </a:rPr>
                <a:t>     </a:t>
              </a:r>
              <a:r>
                <a:rPr b="1" i="1" lang="en-US" sz="1100" spc="-1" strike="noStrike">
                  <a:solidFill>
                    <a:srgbClr val="984807"/>
                  </a:solidFill>
                  <a:latin typeface="Wingdings"/>
                  <a:ea typeface="Wingdings"/>
                </a:rPr>
                <a:t></a:t>
              </a:r>
              <a:r>
                <a:rPr b="1" i="1" lang="en-US" sz="1100" spc="-1" strike="noStrike">
                  <a:solidFill>
                    <a:srgbClr val="984807"/>
                  </a:solidFill>
                  <a:latin typeface="HY중고딕"/>
                  <a:ea typeface="HY중고딕"/>
                </a:rPr>
                <a:t>2018</a:t>
              </a:r>
              <a:r>
                <a:rPr b="1" i="1" lang="ko-KR" sz="1100" spc="-1" strike="noStrike">
                  <a:solidFill>
                    <a:srgbClr val="984807"/>
                  </a:solidFill>
                  <a:latin typeface="HY중고딕"/>
                  <a:ea typeface="HY중고딕"/>
                </a:rPr>
                <a:t>년 후반기</a:t>
              </a:r>
              <a:r>
                <a:rPr b="1" i="1" lang="en-US" sz="1100" spc="-1" strike="noStrike">
                  <a:solidFill>
                    <a:srgbClr val="984807"/>
                  </a:solidFill>
                  <a:latin typeface="HY중고딕"/>
                  <a:ea typeface="HY중고딕"/>
                </a:rPr>
                <a:t>_OO</a:t>
              </a:r>
              <a:r>
                <a:rPr b="1" i="1" lang="ko-KR" sz="1100" spc="-1" strike="noStrike">
                  <a:solidFill>
                    <a:srgbClr val="984807"/>
                  </a:solidFill>
                  <a:latin typeface="HY중고딕"/>
                  <a:ea typeface="HY중고딕"/>
                </a:rPr>
                <a:t>대</a:t>
              </a:r>
              <a:r>
                <a:rPr b="1" i="1" lang="en-US" sz="1100" spc="-1" strike="noStrike">
                  <a:solidFill>
                    <a:srgbClr val="984807"/>
                  </a:solidFill>
                  <a:latin typeface="HY중고딕"/>
                  <a:ea typeface="HY중고딕"/>
                </a:rPr>
                <a:t>_</a:t>
              </a:r>
              <a:r>
                <a:rPr b="1" i="1" lang="ko-KR" sz="1100" spc="-1" strike="noStrike">
                  <a:solidFill>
                    <a:srgbClr val="984807"/>
                  </a:solidFill>
                  <a:latin typeface="HY중고딕"/>
                  <a:ea typeface="HY중고딕"/>
                </a:rPr>
                <a:t>홍길동</a:t>
              </a:r>
              <a:r>
                <a:rPr b="1" i="1" lang="en-US" sz="1100" spc="-1" strike="noStrike">
                  <a:solidFill>
                    <a:srgbClr val="984807"/>
                  </a:solidFill>
                  <a:latin typeface="HY중고딕"/>
                  <a:ea typeface="HY중고딕"/>
                </a:rPr>
                <a:t>_</a:t>
              </a:r>
              <a:r>
                <a:rPr b="1" i="1" lang="ko-KR" sz="1100" spc="-1" strike="noStrike">
                  <a:solidFill>
                    <a:srgbClr val="984807"/>
                  </a:solidFill>
                  <a:latin typeface="HY중고딕"/>
                  <a:ea typeface="HY중고딕"/>
                </a:rPr>
                <a:t>지원신청서</a:t>
              </a:r>
              <a:r>
                <a:rPr b="1" i="1" lang="en-US" sz="1100" spc="-1" strike="noStrike">
                  <a:solidFill>
                    <a:srgbClr val="984807"/>
                  </a:solidFill>
                  <a:latin typeface="HY중고딕"/>
                  <a:ea typeface="HY중고딕"/>
                </a:rPr>
                <a:t>.hwp</a:t>
              </a:r>
              <a:br>
                <a:rPr sz="1100"/>
              </a:br>
              <a:r>
                <a:rPr b="1" i="1" lang="en-US" sz="1100" spc="-1" strike="noStrike">
                  <a:solidFill>
                    <a:srgbClr val="984807"/>
                  </a:solidFill>
                  <a:latin typeface="HY중고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50" name="모서리가 둥근 직사각형 6"/>
          <p:cNvGrpSpPr/>
          <p:nvPr/>
        </p:nvGrpSpPr>
        <p:grpSpPr>
          <a:xfrm>
            <a:off x="457200" y="1889280"/>
            <a:ext cx="4054320" cy="1463400"/>
            <a:chOff x="457200" y="1889280"/>
            <a:chExt cx="4054320" cy="1463400"/>
          </a:xfrm>
        </p:grpSpPr>
        <p:pic>
          <p:nvPicPr>
            <p:cNvPr id="351" name="모서리가 둥근 직사각형 6" descr=""/>
            <p:cNvPicPr/>
            <p:nvPr/>
          </p:nvPicPr>
          <p:blipFill>
            <a:blip r:embed="rId4"/>
            <a:stretch/>
          </p:blipFill>
          <p:spPr>
            <a:xfrm>
              <a:off x="457200" y="1889280"/>
              <a:ext cx="4054320" cy="14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512640" y="1944720"/>
              <a:ext cx="394200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53" name="모서리가 둥근 직사각형 7"/>
          <p:cNvGrpSpPr/>
          <p:nvPr/>
        </p:nvGrpSpPr>
        <p:grpSpPr>
          <a:xfrm>
            <a:off x="3408480" y="1616040"/>
            <a:ext cx="742680" cy="243000"/>
            <a:chOff x="3408480" y="1616040"/>
            <a:chExt cx="742680" cy="243000"/>
          </a:xfrm>
        </p:grpSpPr>
        <p:pic>
          <p:nvPicPr>
            <p:cNvPr id="354" name="모서리가 둥근 직사각형 7" descr=""/>
            <p:cNvPicPr/>
            <p:nvPr/>
          </p:nvPicPr>
          <p:blipFill>
            <a:blip r:embed="rId5"/>
            <a:stretch/>
          </p:blipFill>
          <p:spPr>
            <a:xfrm>
              <a:off x="3408480" y="1616040"/>
              <a:ext cx="74268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3427560" y="1635120"/>
              <a:ext cx="7063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56" name="모서리가 둥근 사각형 설명선 10"/>
          <p:cNvGrpSpPr/>
          <p:nvPr/>
        </p:nvGrpSpPr>
        <p:grpSpPr>
          <a:xfrm>
            <a:off x="3925800" y="1779480"/>
            <a:ext cx="3402000" cy="3872160"/>
            <a:chOff x="3925800" y="1779480"/>
            <a:chExt cx="3402000" cy="3872160"/>
          </a:xfrm>
        </p:grpSpPr>
        <p:pic>
          <p:nvPicPr>
            <p:cNvPr id="357" name="모서리가 둥근 사각형 설명선 10" descr=""/>
            <p:cNvPicPr/>
            <p:nvPr/>
          </p:nvPicPr>
          <p:blipFill>
            <a:blip r:embed="rId6"/>
            <a:stretch/>
          </p:blipFill>
          <p:spPr>
            <a:xfrm>
              <a:off x="3925800" y="1779480"/>
              <a:ext cx="3402000" cy="38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764240" y="3260880"/>
              <a:ext cx="2352600" cy="22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각종 내용 및 자료의 입력이 완료되면             탭을 눌러줍니다</a:t>
              </a:r>
              <a:r>
                <a:rPr b="0" lang="en-US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. </a:t>
              </a:r>
              <a:r>
                <a:rPr b="0" lang="ko-KR" sz="11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접수완료는 재단 사업담당자에게 보내주는 단순한 신호로서 </a:t>
              </a:r>
              <a:r>
                <a:rPr b="0" lang="ko-KR" sz="1100" spc="-1" strike="noStrike">
                  <a:solidFill>
                    <a:srgbClr val="ff0000"/>
                  </a:solidFill>
                  <a:latin typeface="HY중고딕"/>
                  <a:ea typeface="HY중고딕"/>
                </a:rPr>
                <a:t>사업접수기간 내에는 언제든 수정이 가능합니다</a:t>
              </a:r>
              <a:r>
                <a:rPr b="0" lang="en-US" sz="1100" spc="-1" strike="noStrike">
                  <a:solidFill>
                    <a:srgbClr val="ff0000"/>
                  </a:solidFill>
                  <a:latin typeface="HY중고딕"/>
                  <a:ea typeface="HY중고딕"/>
                </a:rPr>
                <a:t>. </a:t>
              </a:r>
              <a:r>
                <a:rPr b="0" lang="ko-KR" sz="1100" spc="-1" strike="noStrike">
                  <a:solidFill>
                    <a:srgbClr val="ff0000"/>
                  </a:solidFill>
                  <a:latin typeface="HY중고딕"/>
                  <a:ea typeface="HY중고딕"/>
                </a:rPr>
                <a:t>접수완료를 수행했을 경우 접수화면 리스트에 </a:t>
              </a:r>
              <a:r>
                <a:rPr b="0" lang="en-US" sz="1100" spc="-1" strike="noStrike">
                  <a:solidFill>
                    <a:srgbClr val="ff0000"/>
                  </a:solidFill>
                  <a:latin typeface="HY중고딕"/>
                  <a:ea typeface="HY중고딕"/>
                </a:rPr>
                <a:t>‘</a:t>
              </a:r>
              <a:r>
                <a:rPr b="0" lang="ko-KR" sz="1100" spc="-1" strike="noStrike">
                  <a:solidFill>
                    <a:srgbClr val="ff0000"/>
                  </a:solidFill>
                  <a:latin typeface="HY중고딕"/>
                  <a:ea typeface="HY중고딕"/>
                </a:rPr>
                <a:t>접수일자</a:t>
              </a:r>
              <a:r>
                <a:rPr b="0" lang="en-US" sz="1100" spc="-1" strike="noStrike">
                  <a:solidFill>
                    <a:srgbClr val="ff0000"/>
                  </a:solidFill>
                  <a:latin typeface="HY중고딕"/>
                  <a:ea typeface="HY중고딕"/>
                </a:rPr>
                <a:t>’</a:t>
              </a:r>
              <a:r>
                <a:rPr b="0" lang="ko-KR" sz="1100" spc="-1" strike="noStrike">
                  <a:solidFill>
                    <a:srgbClr val="ff0000"/>
                  </a:solidFill>
                  <a:latin typeface="HY중고딕"/>
                  <a:ea typeface="HY중고딕"/>
                </a:rPr>
                <a:t>가 기재되어 나타납니다</a:t>
              </a:r>
              <a:r>
                <a:rPr b="0" lang="en-US" sz="1100" spc="-1" strike="noStrike">
                  <a:solidFill>
                    <a:srgbClr val="ff0000"/>
                  </a:solidFill>
                  <a:latin typeface="HY중고딕"/>
                  <a:ea typeface="HY중고딕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59" name="Picture 3" descr=""/>
          <p:cNvPicPr/>
          <p:nvPr/>
        </p:nvPicPr>
        <p:blipFill>
          <a:blip r:embed="rId7"/>
          <a:stretch/>
        </p:blipFill>
        <p:spPr>
          <a:xfrm>
            <a:off x="4932360" y="3284640"/>
            <a:ext cx="2114640" cy="766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8"/>
          <a:stretch/>
        </p:blipFill>
        <p:spPr>
          <a:xfrm>
            <a:off x="5046840" y="4389480"/>
            <a:ext cx="450720" cy="1461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"/>
          <p:cNvPicPr/>
          <p:nvPr/>
        </p:nvPicPr>
        <p:blipFill>
          <a:blip r:embed="rId9"/>
          <a:stretch/>
        </p:blipFill>
        <p:spPr>
          <a:xfrm>
            <a:off x="6588000" y="1341360"/>
            <a:ext cx="2124360" cy="744480"/>
          </a:xfrm>
          <a:prstGeom prst="rect">
            <a:avLst/>
          </a:prstGeom>
          <a:ln w="0">
            <a:noFill/>
          </a:ln>
        </p:spPr>
      </p:pic>
      <p:grpSp>
        <p:nvGrpSpPr>
          <p:cNvPr id="362" name="모서리가 둥근 직사각형 14"/>
          <p:cNvGrpSpPr/>
          <p:nvPr/>
        </p:nvGrpSpPr>
        <p:grpSpPr>
          <a:xfrm>
            <a:off x="4127400" y="1616040"/>
            <a:ext cx="816120" cy="243000"/>
            <a:chOff x="4127400" y="1616040"/>
            <a:chExt cx="816120" cy="243000"/>
          </a:xfrm>
        </p:grpSpPr>
        <p:pic>
          <p:nvPicPr>
            <p:cNvPr id="363" name="모서리가 둥근 직사각형 14" descr=""/>
            <p:cNvPicPr/>
            <p:nvPr/>
          </p:nvPicPr>
          <p:blipFill>
            <a:blip r:embed="rId10"/>
            <a:stretch/>
          </p:blipFill>
          <p:spPr>
            <a:xfrm>
              <a:off x="4127400" y="1616040"/>
              <a:ext cx="81612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4146480" y="1635120"/>
              <a:ext cx="779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65" name="Picture 7" descr=""/>
          <p:cNvPicPr/>
          <p:nvPr/>
        </p:nvPicPr>
        <p:blipFill>
          <a:blip r:embed="rId11"/>
          <a:stretch/>
        </p:blipFill>
        <p:spPr>
          <a:xfrm>
            <a:off x="7264440" y="2289240"/>
            <a:ext cx="646200" cy="1666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1"/>
          <p:cNvSpPr/>
          <p:nvPr/>
        </p:nvSpPr>
        <p:spPr>
          <a:xfrm>
            <a:off x="3621240" y="5729400"/>
            <a:ext cx="428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HY중고딕"/>
                <a:ea typeface="HY중고딕"/>
              </a:rPr>
              <a:t>※ </a:t>
            </a:r>
            <a:r>
              <a:rPr b="0" lang="ko-KR" sz="1400" spc="-1" strike="noStrike">
                <a:solidFill>
                  <a:srgbClr val="ff0000"/>
                </a:solidFill>
                <a:latin typeface="HY중고딕"/>
                <a:ea typeface="HY중고딕"/>
              </a:rPr>
              <a:t>해당 파일을 선택 후 모든 파일이 시스템에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HY중고딕"/>
                <a:ea typeface="HY중고딕"/>
              </a:rPr>
              <a:t>    </a:t>
            </a:r>
            <a:r>
              <a:rPr b="0" lang="ko-KR" sz="1400" spc="-1" strike="noStrike">
                <a:solidFill>
                  <a:srgbClr val="ff0000"/>
                </a:solidFill>
                <a:latin typeface="HY중고딕"/>
                <a:ea typeface="HY중고딕"/>
              </a:rPr>
              <a:t>업로드 되는데까지 로딩 시간이 필요하기 때문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HY중고딕"/>
                <a:ea typeface="HY중고딕"/>
              </a:rPr>
              <a:t>    </a:t>
            </a:r>
            <a:r>
              <a:rPr b="0" lang="ko-KR" sz="1400" spc="-1" strike="noStrike">
                <a:solidFill>
                  <a:srgbClr val="ff0000"/>
                </a:solidFill>
                <a:latin typeface="HY중고딕"/>
                <a:ea typeface="HY중고딕"/>
              </a:rPr>
              <a:t>몇 분간 대기 후 저장 버튼을 클릭합니다</a:t>
            </a:r>
            <a:r>
              <a:rPr b="0" lang="en-US" sz="1400" spc="-1" strike="noStrike">
                <a:solidFill>
                  <a:srgbClr val="ff0000"/>
                </a:solidFill>
                <a:latin typeface="HY중고딕"/>
                <a:ea typeface="HY중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11"/>
          <p:cNvSpPr/>
          <p:nvPr/>
        </p:nvSpPr>
        <p:spPr>
          <a:xfrm>
            <a:off x="179280" y="189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HY태백B"/>
                <a:ea typeface="HY태백B"/>
              </a:rPr>
              <a:t>문의처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68" name="그룹 17" descr=""/>
          <p:cNvPicPr/>
          <p:nvPr/>
        </p:nvPicPr>
        <p:blipFill>
          <a:blip r:embed="rId1"/>
          <a:stretch/>
        </p:blipFill>
        <p:spPr>
          <a:xfrm>
            <a:off x="554040" y="1274760"/>
            <a:ext cx="3889440" cy="9009000"/>
          </a:xfrm>
          <a:prstGeom prst="rect">
            <a:avLst/>
          </a:prstGeom>
          <a:ln w="0">
            <a:noFill/>
          </a:ln>
        </p:spPr>
      </p:pic>
      <p:pic>
        <p:nvPicPr>
          <p:cNvPr id="369" name="그룹 18" descr=""/>
          <p:cNvPicPr/>
          <p:nvPr/>
        </p:nvPicPr>
        <p:blipFill>
          <a:blip r:embed="rId2"/>
          <a:stretch/>
        </p:blipFill>
        <p:spPr>
          <a:xfrm>
            <a:off x="4748040" y="1206360"/>
            <a:ext cx="3895920" cy="900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모서리가 둥근 직사각형 11"/>
          <p:cNvSpPr/>
          <p:nvPr/>
        </p:nvSpPr>
        <p:spPr>
          <a:xfrm flipH="1">
            <a:off x="1011240" y="1339920"/>
            <a:ext cx="7121520" cy="1297080"/>
          </a:xfrm>
          <a:prstGeom prst="roundRect">
            <a:avLst>
              <a:gd name="adj" fmla="val 9556"/>
            </a:avLst>
          </a:prstGeom>
          <a:gradFill rotWithShape="0">
            <a:gsLst>
              <a:gs pos="0">
                <a:srgbClr val="25a8fa"/>
              </a:gs>
              <a:gs pos="100000">
                <a:srgbClr val="0068ac"/>
              </a:gs>
            </a:gsLst>
            <a:lin ang="5400000"/>
          </a:gradFill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1" name="직사각형 12" descr=""/>
          <p:cNvPicPr/>
          <p:nvPr/>
        </p:nvPicPr>
        <p:blipFill>
          <a:blip r:embed="rId1"/>
          <a:stretch/>
        </p:blipFill>
        <p:spPr>
          <a:xfrm>
            <a:off x="1474920" y="981000"/>
            <a:ext cx="6767280" cy="225576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40"/>
          <p:cNvGrpSpPr/>
          <p:nvPr/>
        </p:nvGrpSpPr>
        <p:grpSpPr>
          <a:xfrm>
            <a:off x="998280" y="1328760"/>
            <a:ext cx="1547640" cy="658800"/>
            <a:chOff x="998280" y="1328760"/>
            <a:chExt cx="1547640" cy="658800"/>
          </a:xfrm>
        </p:grpSpPr>
        <p:sp>
          <p:nvSpPr>
            <p:cNvPr id="373" name="직각 삼각형 14"/>
            <p:cNvSpPr/>
            <p:nvPr/>
          </p:nvSpPr>
          <p:spPr>
            <a:xfrm rot="5400000">
              <a:off x="1442520" y="884160"/>
              <a:ext cx="658800" cy="1547640"/>
            </a:xfrm>
            <a:prstGeom prst="rtTriangle">
              <a:avLst/>
            </a:prstGeom>
            <a:gradFill rotWithShape="0">
              <a:gsLst>
                <a:gs pos="0">
                  <a:srgbClr val="004370"/>
                </a:gs>
                <a:gs pos="100000">
                  <a:srgbClr val="0043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4" name="직각 삼각형 15"/>
            <p:cNvSpPr/>
            <p:nvPr/>
          </p:nvSpPr>
          <p:spPr>
            <a:xfrm rot="5400000">
              <a:off x="1424160" y="903960"/>
              <a:ext cx="628920" cy="1477800"/>
            </a:xfrm>
            <a:prstGeom prst="rtTriangl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9f9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5" name="직선 연결선 20"/>
          <p:cNvSpPr/>
          <p:nvPr/>
        </p:nvSpPr>
        <p:spPr>
          <a:xfrm>
            <a:off x="693720" y="5929200"/>
            <a:ext cx="7920000" cy="1800"/>
          </a:xfrm>
          <a:prstGeom prst="line">
            <a:avLst/>
          </a:prstGeom>
          <a:ln w="2844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6" name="TextBox 35" descr=""/>
          <p:cNvPicPr/>
          <p:nvPr/>
        </p:nvPicPr>
        <p:blipFill>
          <a:blip r:embed="rId2"/>
          <a:stretch/>
        </p:blipFill>
        <p:spPr>
          <a:xfrm>
            <a:off x="4780080" y="4803840"/>
            <a:ext cx="1571400" cy="877680"/>
          </a:xfrm>
          <a:prstGeom prst="rect">
            <a:avLst/>
          </a:prstGeom>
          <a:ln w="0">
            <a:noFill/>
          </a:ln>
        </p:spPr>
      </p:pic>
      <p:pic>
        <p:nvPicPr>
          <p:cNvPr id="377" name="TextBox 36" descr=""/>
          <p:cNvPicPr/>
          <p:nvPr/>
        </p:nvPicPr>
        <p:blipFill>
          <a:blip r:embed="rId3"/>
          <a:stretch/>
        </p:blipFill>
        <p:spPr>
          <a:xfrm>
            <a:off x="2030400" y="4803840"/>
            <a:ext cx="1571760" cy="877680"/>
          </a:xfrm>
          <a:prstGeom prst="rect">
            <a:avLst/>
          </a:prstGeom>
          <a:ln w="0">
            <a:noFill/>
          </a:ln>
        </p:spPr>
      </p:pic>
      <p:pic>
        <p:nvPicPr>
          <p:cNvPr id="378" name="그룹 99" descr=""/>
          <p:cNvPicPr/>
          <p:nvPr/>
        </p:nvPicPr>
        <p:blipFill>
          <a:blip r:embed="rId4"/>
          <a:stretch/>
        </p:blipFill>
        <p:spPr>
          <a:xfrm>
            <a:off x="1152360" y="3249720"/>
            <a:ext cx="6839280" cy="2560680"/>
          </a:xfrm>
          <a:prstGeom prst="rect">
            <a:avLst/>
          </a:prstGeom>
          <a:ln w="0">
            <a:noFill/>
          </a:ln>
        </p:spPr>
      </p:pic>
      <p:sp>
        <p:nvSpPr>
          <p:cNvPr id="379" name="Oval 29"/>
          <p:cNvSpPr/>
          <p:nvPr/>
        </p:nvSpPr>
        <p:spPr>
          <a:xfrm>
            <a:off x="1768320" y="4059360"/>
            <a:ext cx="2840040" cy="126036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Oval 29"/>
          <p:cNvSpPr/>
          <p:nvPr/>
        </p:nvSpPr>
        <p:spPr>
          <a:xfrm>
            <a:off x="4562640" y="4059360"/>
            <a:ext cx="2840040" cy="126036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81" name="타원 59" descr=""/>
          <p:cNvPicPr/>
          <p:nvPr/>
        </p:nvPicPr>
        <p:blipFill>
          <a:blip r:embed="rId5"/>
          <a:stretch/>
        </p:blipFill>
        <p:spPr>
          <a:xfrm>
            <a:off x="5035680" y="3597120"/>
            <a:ext cx="1846080" cy="1438560"/>
          </a:xfrm>
          <a:prstGeom prst="rect">
            <a:avLst/>
          </a:prstGeom>
          <a:ln w="0">
            <a:noFill/>
          </a:ln>
        </p:spPr>
      </p:pic>
      <p:pic>
        <p:nvPicPr>
          <p:cNvPr id="382" name="타원 60" descr=""/>
          <p:cNvPicPr/>
          <p:nvPr/>
        </p:nvPicPr>
        <p:blipFill>
          <a:blip r:embed="rId6"/>
          <a:stretch/>
        </p:blipFill>
        <p:spPr>
          <a:xfrm>
            <a:off x="2236680" y="3597120"/>
            <a:ext cx="1847880" cy="1438560"/>
          </a:xfrm>
          <a:prstGeom prst="rect">
            <a:avLst/>
          </a:prstGeom>
          <a:ln w="0">
            <a:noFill/>
          </a:ln>
        </p:spPr>
      </p:pic>
      <p:sp>
        <p:nvSpPr>
          <p:cNvPr id="383" name="Oval 28"/>
          <p:cNvSpPr/>
          <p:nvPr/>
        </p:nvSpPr>
        <p:spPr>
          <a:xfrm flipH="1">
            <a:off x="2456640" y="3968640"/>
            <a:ext cx="435240" cy="392400"/>
          </a:xfrm>
          <a:prstGeom prst="ellipse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67abf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Oval 28"/>
          <p:cNvSpPr/>
          <p:nvPr/>
        </p:nvSpPr>
        <p:spPr>
          <a:xfrm flipH="1">
            <a:off x="5292720" y="3968640"/>
            <a:ext cx="434880" cy="392400"/>
          </a:xfrm>
          <a:prstGeom prst="ellipse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67abf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1:47:51Z</dcterms:created>
  <dc:creator>Owner</dc:creator>
  <dc:description/>
  <dc:language>en-US</dc:language>
  <cp:lastModifiedBy>NRF</cp:lastModifiedBy>
  <dcterms:modified xsi:type="dcterms:W3CDTF">2018-03-13T04:19:06Z</dcterms:modified>
  <cp:revision>127</cp:revision>
  <dc:subject/>
  <dc:title>슬라이드 1</dc:title>
</cp:coreProperties>
</file>