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AC1F-12C2-4788-B3D3-C84906B4C5B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5391-71D4-4C11-9A18-A7AF3986603C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ADCD-9A3D-4A1E-AB84-6A4CE3633B79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7BFE-EA38-4E69-885D-356C6C46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DAFE-0AD5-4321-B5C8-B1CF9D047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687B-2A59-4B79-AAEF-448B198B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CE97-D659-4277-9FA4-1512111E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7DD1-B249-41B2-9308-F9D78783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4265-278F-472E-A046-6D3CBF8F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6F43-3BBA-41E4-8267-10B22C4F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B54F-29D5-49C1-8215-BDB93CBD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FC9A-C159-4B87-8E9C-5EBA40B8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90C-9A32-40A0-964B-61AF855B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6297-A17E-4157-9BBE-167DCA1C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FBCE-1421-457D-B3EE-FAFB6EE0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C2B2-C8F2-48BB-A74D-B7BDC282D2C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73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2:13Z</dcterms:modified>
  <cp:revision>254</cp:revision>
  <dc:subject/>
  <dc:title>슬라이드 1</dc:title>
</cp:coreProperties>
</file>